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92B9-956C-4EAF-B0A0-F61093A19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2883-1660-4569-9EC4-A83654D8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2F6E-0B64-40BA-A664-EC406460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0330-F53E-4276-8C44-5F65CD782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1B85-C5BA-4C04-9D7A-736D8E98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2D24-B2CE-4622-A2CD-F2EA7094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1071-C0D3-4FA3-84ED-D0FB61EE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3EAB-7BE4-4880-BFB4-B9333CDC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275E-C121-42D2-B640-2CD9FC15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9093-A2E1-4FEC-8F8A-DDF0A7A5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5275-56C0-4EA0-8609-B670A04C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6AFE-68C3-4E06-B4CF-5C788FF2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2D20-BECF-47EC-8100-D66E334B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D324-0C33-4481-AC98-EC964490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0508-30A9-4910-958C-430299CD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C59F-F0BB-449D-BDDC-9186EC87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FD5A-30CF-45A9-9066-FF9E67A1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524B-E1C2-4892-9D49-DC110E86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0498-CD60-4754-B584-F66D1C7F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BF2A-4478-4210-83E9-AB43A83B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88A7-C2A4-42D1-B03B-304E9DF9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54DE-BA2E-4117-9357-02FDE5AD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A7DF-E66B-434E-8443-655101AA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E4EE-D492-4E86-90BF-7E30B3CD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BF36-32AB-4E71-BC57-F7BD2A06ABF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5C91-F682-440F-A85C-5FF2C2980A8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Verdana"/>
              </a:rPr>
              <a:t>Legge 199/2016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4000" y="3428640"/>
            <a:ext cx="7802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zioni virtuose e criticit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0" y="272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-8280" y="2721960"/>
            <a:ext cx="1686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476360" y="691200"/>
            <a:ext cx="53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GRAZ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Monica Accog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Flai CGIL Lecc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9280" y="249228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zioni repressive (attraverso le forze dell’ordine e attività di contrasto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otenziamento della Rete del lavoro Agricolo di Qualità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0" y="272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-8280" y="2707560"/>
            <a:ext cx="1686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539280" y="1196640"/>
            <a:ext cx="80010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a legge individua percorsi per aggredire: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fruttamento del lavoro e intermediazione illeci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9280" y="3068640"/>
            <a:ext cx="80010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ale principio incontrerebbe gli auspici della Regionale (Puglia) 28/2006 e del Protocollo Sperimentale “Cura-legalità e uscita dal Ghetto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e risorse:POR 2014/20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539280" y="1341360"/>
            <a:ext cx="80010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potesi:individuazione di un ”soggetto regionale“ di contrasto al lavoro nero e caporala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1052280"/>
            <a:ext cx="80010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</a:rPr>
              <a:t>INCONTRO DOMANDA/OFFERTA DI LAVORO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001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Costituzione presso i CpI di “sezione per il mercato del lavoro in agricoltura”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ttivazione sportelli mobili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Formazione degli operatori dei Cp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ACCOGLIEN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tilizzo delle risorse (legge di bilancio regionale Puglia 2016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tilizzo risorse previste nel Piano Regionale per le Politiche Abitative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rogetti sperimentali “campi di Ospitalita” (Protocollo di Lecce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rogetti sperimentali Enti bilaterali del settore Agricolo (CASSA AMICA LECCE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TRASPOR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Fondi FESR (Asse 7 trasporto pubblico locale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Istituzione di Protocolli specifici con i Comuni (Protocollo di Lecce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evisione di un sistema incentivante per le imprese che utilizzano trasporto pubblic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Verdana"/>
              </a:rPr>
              <a:t>EDUCAZIONE ALLA LEGALITÀ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rt. 1 Legge regionale 28/2006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otocolli d’intesa tra pubbliche amministrazioni e OO.DD. e OO.SS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zioni di monitoraggio degli indici di congruità in agricoltura (regolamento n. 31/2009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765000"/>
            <a:ext cx="8001000" cy="7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Protocollo d’Intesa Lec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tato dell’arte e criticit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Attività sindacali FLAI CGIL</a:t>
            </a:r>
            <a:br>
              <a:rPr sz="3400"/>
            </a:b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(oltre la Legge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ttività “Ancora in campo”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ogetto “Formazione SPRAR E CAS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0T15:38:31Z</dcterms:created>
  <dc:creator>Monica</dc:creator>
  <dc:description/>
  <dc:language>en-US</dc:language>
  <cp:lastModifiedBy>Maria Carmela Macri</cp:lastModifiedBy>
  <dcterms:modified xsi:type="dcterms:W3CDTF">2017-12-12T10:49:58Z</dcterms:modified>
  <cp:revision>6</cp:revision>
  <dc:subject/>
  <dc:title>Legge 199/2016</dc:title>
</cp:coreProperties>
</file>